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A52457-DEC1-41AC-8C71-239B9D12B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– The key to a community of learners. The key to Making It Happen.   Real talk equals real results.  Good for students, good for adults.   Classroom and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the play and how you didn’t remember the 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elected the poem – figurative language, reading between the lines, making abstract conne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connection between teacher effectiveness and student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C and 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Good for everyone- specials, special education, differentiated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connection between teacher effectiveness and student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C and 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s that readers make between the text and their past experiences or background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-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s that readers make between the text that they are reading and another text, including books poems, scripts songs, or anything that is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s that readers make between the text and the bigger issues, events, or concerns of society and the world at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= Importa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K= Prior knowled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= Synth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= Mental Im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!= An Inference (conclusion, judgement, belief, opinion based on tex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?= 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= Predi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= Confirmed Predi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/C= Prediction Disconfirm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?= I don’t understand a word or p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= Problem Sol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= this part surprised 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= I need to talk to some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Mosaic of Thought, Keene &amp; Zimmerma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AF64-D802-4FB6-BEBA-2EAC8E5B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4C29-0353-48D7-96F2-D28B10CC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6DF-A02E-40C1-B43B-0DD6864F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706D-0F17-4F51-9D42-A18689C3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0A7-A0AC-40E3-B0BF-6CF04E38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5B6-2559-4604-90FF-C9C8A572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832-B5FB-4F85-88B2-BAB9F7D4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606-331B-4F45-B143-6AD81F16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E059-6548-45BC-B2A1-087DBE16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018-8818-4E8C-881F-BDA18FBF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2F55-4D95-490E-A4DE-D04542D4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4FA3-963D-483C-9D99-E4386B1F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1DBB-8344-433E-8E34-DB946B190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33720" y="457200"/>
            <a:ext cx="4419360" cy="434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Jester"/>
              </a:rPr>
              <a:t>North Rockland High School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Jester"/>
              <a:ea typeface="Jester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19520" y="1143000"/>
          <a:ext cx="302580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143000"/>
                    <a:ext cx="3025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6479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Make It Happen 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Power of Communication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2007-2008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3434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18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Putting Instructional Strategies into Pract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.  Text to 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reas of text where T-S connections can be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T-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.  Text to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rea of text where T-W connections can be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T-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.  Text to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rea of text where T-T connections can be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T-Char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.  Coding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reas of text that can be co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Strateg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happens to a dream deferr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it dry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 a raisin in the su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fester like a sore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n ru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it stink like rotten me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crust and sugar over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 a syrupy swee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be it just sa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 a heavy lo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does it explod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y Conn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-S, T-W. T-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-T)  Martin Luther King’s “I Have a Dream” spee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(?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Was this poem by Hughes the inspiration for the play “A Raisin in the Sun” by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-W)  Civil Rights Movement of MLK compared to the Blank Panther Movement and/or Malcolm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Faculty Meeting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September 20,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ent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uiding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What is the purpose of utilizing literacy strategies across the curriculum and what is its effect upon student achiev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ey Te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ng – Constructing – Util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C-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empus Sans ITC"/>
              </a:rPr>
              <a:t>Faculty Meeting Focus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Tempus Sans ITC"/>
              </a:rPr>
              <a:t>“The Power of Communication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6553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empus Sans ITC"/>
              </a:rPr>
              <a:t>Developing student communication skills to build student proficiency/mastery through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Reading-Writing in Content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Student Talk – Discourse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Explicit Reading Comprehension Instruction: Before, During and After (B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Focusing on the learner through ongoing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Character Education: Building th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781680" y="2438280"/>
            <a:ext cx="2362320" cy="3124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29528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Faculty Meeting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September 20,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ent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What is the purpose of utilizing literacy strategies across the curriculum and what is the effect upon student achiev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ey Te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ng – Constructing – Util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C-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9900"/>
                </a:solidFill>
                <a:latin typeface="Tempus Sans ITC"/>
              </a:rPr>
              <a:t>Content Literacy</a:t>
            </a:r>
            <a:br>
              <a:rPr sz="48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“Where content and process connect”</a:t>
            </a:r>
            <a:r>
              <a:rPr b="0" lang="en-US" sz="4800" spc="-1" strike="noStrike">
                <a:solidFill>
                  <a:srgbClr val="009900"/>
                </a:solidFill>
                <a:latin typeface="Tempus Sans IT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T – “Always be Thinkin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ways be Talkin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ways be Tackling Tex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43000" y="1447920"/>
            <a:ext cx="6553080" cy="4800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0492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Tempus Sans ITC"/>
              </a:rPr>
              <a:t>Average Retention Ra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1752480"/>
            <a:ext cx="64008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Tempus Sans ITC"/>
              </a:rPr>
              <a:t>5%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Tempus Sans ITC"/>
              </a:rPr>
              <a:t>10%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Tempus Sans ITC"/>
              </a:rPr>
              <a:t>20% Audio-Vi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Tempus Sans ITC"/>
              </a:rPr>
              <a:t>30%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Tempus Sans ITC"/>
              </a:rPr>
              <a:t>50% Discussion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Tempus Sans ITC"/>
              </a:rPr>
              <a:t>75% Practice by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Tempus Sans ITC"/>
              </a:rPr>
              <a:t>90% Teach Others/ Us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362320"/>
            <a:ext cx="1219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2971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57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43434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49528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55627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Disciplinary Litera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Conachie, S., Educational Leadership, Vol. 64, No.2, Oct.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develop deep conceptual knowledge in a discipline only by using the habits of reading, writing, talking and thinking which the discipline values and u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for Learning, University of Pittsburgh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Attention to Process:</a:t>
            </a:r>
            <a:br>
              <a:rPr sz="4000"/>
            </a:b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Comic Sans MS"/>
              </a:rPr>
              <a:t>Initiating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Comic Sans MS"/>
              </a:rPr>
              <a:t>Constructing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6699"/>
                </a:solidFill>
                <a:latin typeface="Comic Sans MS"/>
              </a:rPr>
              <a:t>Utilizing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t a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view and Pred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ivate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ild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entify tex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riting without Compo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e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sts, Brainstorming, Graphically organizing, vocabulary re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324480" y="1980720"/>
            <a:ext cx="2819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f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mar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riting to Demonstrat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says, reports, research papers, formal letters, expository/narrative/creative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828800"/>
            <a:ext cx="8076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219320"/>
            <a:ext cx="1440" cy="5333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1143000"/>
            <a:ext cx="1440" cy="533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1981080"/>
            <a:ext cx="2895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d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 with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ke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d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r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riting to 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oic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d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tence Fl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ick writes, journals, rough drafts, content notes, post-it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Connections to Build Understanding</a:t>
            </a:r>
            <a:br>
              <a:rPr sz="3200"/>
            </a:b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structional Strategy: Model thinking alou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6248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xt to Self Connections (T-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xt to Text Connections (T-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xt to World Connections (T-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477120" y="205740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Connections to Build Understanding</a:t>
            </a:r>
            <a:br>
              <a:rPr sz="3200"/>
            </a:b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structional Strategy: Model text cod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7010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nte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Backgrou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onf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Learning something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onfiction Matters, Harv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867280" y="4572000"/>
            <a:ext cx="289584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21:12:09Z</dcterms:created>
  <dc:creator>North Rockland High School</dc:creator>
  <dc:description/>
  <dc:language>en-US</dc:language>
  <cp:lastModifiedBy>North Rockland High School</cp:lastModifiedBy>
  <dcterms:modified xsi:type="dcterms:W3CDTF">2007-09-20T16:23:33Z</dcterms:modified>
  <cp:revision>12</cp:revision>
  <dc:subject/>
  <dc:title>Make It Happen  Power of Communication 2007-2008 </dc:title>
</cp:coreProperties>
</file>